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49.png" ContentType="image/png"/>
  <Override PartName="/ppt/media/image71.wmf" ContentType="image/x-wmf"/>
  <Override PartName="/ppt/media/image48.png" ContentType="image/png"/>
  <Override PartName="/ppt/media/image70.wmf" ContentType="image/x-wmf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60.wmf" ContentType="image/x-wmf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28.png" ContentType="image/png"/>
  <Override PartName="/ppt/media/image68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9.png" ContentType="image/png"/>
  <Override PartName="/ppt/media/image63.jpeg" ContentType="image/jpeg"/>
  <Override PartName="/ppt/media/image59.wmf" ContentType="image/x-wmf"/>
  <Override PartName="/ppt/media/image22.wmf" ContentType="image/x-wmf"/>
  <Override PartName="/ppt/media/image23.wmf" ContentType="image/x-wmf"/>
  <Override PartName="/ppt/media/image62.wmf" ContentType="image/x-wmf"/>
  <Override PartName="/ppt/media/image64.wmf" ContentType="image/x-wmf"/>
  <Override PartName="/ppt/media/image24.png" ContentType="image/png"/>
  <Override PartName="/ppt/media/image79.wmf" ContentType="image/x-wmf"/>
  <Override PartName="/ppt/media/image67.wmf" ContentType="image/x-wmf"/>
  <Override PartName="/ppt/media/image27.png" ContentType="image/png"/>
  <Override PartName="/ppt/media/image8.wmf" ContentType="image/x-wmf"/>
  <Override PartName="/ppt/media/image40.png" ContentType="image/png"/>
  <Override PartName="/ppt/media/image78.wmf" ContentType="image/x-wmf"/>
  <Override PartName="/ppt/media/image66.wmf" ContentType="image/x-wmf"/>
  <Override PartName="/ppt/media/image26.png" ContentType="image/png"/>
  <Override PartName="/ppt/media/image77.wmf" ContentType="image/x-wmf"/>
  <Override PartName="/ppt/media/image65.wmf" ContentType="image/x-wmf"/>
  <Override PartName="/ppt/media/image25.png" ContentType="image/png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9.wmf" ContentType="image/x-wmf"/>
  <Override PartName="/ppt/media/image41.png" ContentType="image/png"/>
  <Override PartName="/ppt/media/image81.wmf" ContentType="image/x-wmf"/>
  <Override PartName="/ppt/media/image16.wmf" ContentType="image/x-wmf"/>
  <Override PartName="/ppt/media/image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53.png" ContentType="image/png"/>
  <Override PartName="/ppt/media/image1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11.wmf" ContentType="image/x-wmf"/>
  <Override PartName="/ppt/media/image50.png" ContentType="image/png"/>
  <Override PartName="/ppt/media/image84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51.png" ContentType="image/png"/>
  <Override PartName="/ppt/media/image1.wmf" ContentType="image/x-wmf"/>
  <Override PartName="/ppt/media/image13.wmf" ContentType="image/x-wmf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00B-5595-4518-8AAC-8A984C3C0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C447-28D5-4BBE-8723-345CF0D9F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parabola P este determinatǎ de intersecţia dintre planul x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Calibri"/>
              </a:rPr>
              <a:t>1­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,x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 şi suprafaţa prin care este reprezentatǎ î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4FF-51E2-4D1F-B790-3FFC81CFD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4E2-1438-4146-ADBA-5A1C73F3E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E60-AF0A-473D-B090-1CE935DA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6E8-6A5C-4DCD-8EDC-0F035ED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BB50-8EFE-4E2A-9391-EA230959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7C3-B06D-4E87-BD64-06E3ADCE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A35-6E74-410F-86C9-FB32423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DF1-E168-47AC-B249-F86D4C7B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A6BE-7E88-4120-A495-C24F6E3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EA5E-EC3D-4DA2-800A-BEC761A9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DDD-BEA2-49D3-BEB7-24958A3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80D-91A7-49A9-905F-1F7EB7DF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930-89B3-412F-9D23-502661EC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C52-3348-49C7-B2A6-097A9F8B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D240-42F0-4F54-96D8-D59A8A0CB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2.wmf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TODE DE CALCU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NTRU OPTIMIZAREA CU RESTRICŢ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72F1-810C-45DB-8E38-0A0841A59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28600" y="1509840"/>
            <a:ext cx="8686800" cy="9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1951200" y="3657600"/>
            <a:ext cx="5200560" cy="2610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345240" y="609480"/>
            <a:ext cx="42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ncţia Lagrange va fi de form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63520" y="288432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ar sistemul de ecuaţii care trebuie rezolvat pentru determinarea soluţiei optim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6DD6-4BF4-45ED-B929-2D8A592BC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163520" y="1143000"/>
            <a:ext cx="45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Acest sistem are două soluţi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199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326-FAC0-4091-B1E3-2CF28D226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652760" y="747720"/>
            <a:ext cx="58384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190-3A21-4237-93D6-A4C933AD0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63680" y="4572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UL 3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3680" y="1066680"/>
            <a:ext cx="822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ă se determine punctele de extrem ale funcţi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601440" y="1984320"/>
            <a:ext cx="19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(x,y,z) = xy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87440" y="301608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în prezenţa restricţiil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308400" y="4191120"/>
            <a:ext cx="257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 + y + z =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y + yz + zx =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38DC-AB06-4E23-8A9B-91C88908C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55480" y="533520"/>
            <a:ext cx="47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truim funcţia lui Lagran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25040" cy="666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33520" y="243828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terminăm punctele critice şi valorile corespunzătoare ale multiplicatorilor Lagrang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271600" y="3530520"/>
            <a:ext cx="4586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10D-4841-4582-BB13-2E42D7F5A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19680" y="380880"/>
            <a:ext cx="35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ţinem sistemul simetr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436840" y="1266840"/>
            <a:ext cx="4200480" cy="2162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325440" y="365292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unăm între ele primele trei ecuaţ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1647720" y="4267080"/>
            <a:ext cx="5848560" cy="505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304920" y="5029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şi înlocuim suma şi suma dublelor produse din ultimele două ecuaţ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3298680" y="5715000"/>
            <a:ext cx="24768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412-142E-4A01-AA76-F13144AC7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228600" y="304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ădem între ele, două câte două, primele trei ecuaţ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46120" y="1143000"/>
            <a:ext cx="7981920" cy="15559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228600" y="3105000"/>
            <a:ext cx="82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ducem termenii asemenea şi scoatem factorul com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26880" y="4343400"/>
            <a:ext cx="8420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4C90-857E-4FC9-97B9-1F47A3B06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form fiecărei ecuaţii în parte, avem de analizat câte două situaţi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476440" y="1143000"/>
            <a:ext cx="3962520" cy="1779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228600" y="34401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e suficient să studiem următoarele patru cazu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2438280" y="4038480"/>
            <a:ext cx="4419720" cy="417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2438280" y="4648320"/>
            <a:ext cx="3810240" cy="417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4"/>
          <a:stretch/>
        </p:blipFill>
        <p:spPr>
          <a:xfrm>
            <a:off x="2438280" y="5291280"/>
            <a:ext cx="3962520" cy="433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2476440" y="5935680"/>
            <a:ext cx="38102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DE18-7748-44CE-BA97-6C772DA7A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5228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bservăm că  i), iii) şi iv) conduc l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x = y = z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 unde, conform ecuaţiilor a patra şi a cincea din sistemul iniţial, rezulta contradicţia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x = 5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şi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2280" y="173664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În cazul ii)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 = x = -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ar ecuaţiile a patra şi a cincea din sistemul initial dev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124080" y="2844720"/>
            <a:ext cx="2743200" cy="833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252000" y="3909960"/>
            <a:ext cx="87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fectuăm substituţia y = 5 – 2x în ultima ecuaţie şi obţinem succes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1533600" y="4554360"/>
            <a:ext cx="616896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0AB7-67C4-48A7-8C56-48419CAAE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344680" y="685800"/>
            <a:ext cx="4524480" cy="12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2205000" y="2209680"/>
            <a:ext cx="4734000" cy="140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2085840" y="3276720"/>
            <a:ext cx="4972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losirea multiplicatorilor La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entru rezolvarea problemelor de optim cu restricţii de tip egali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FDF-8304-41E8-9A24-30EEA68E0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17880" y="38088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unctele critice su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514440" y="1857240"/>
            <a:ext cx="8115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lculăm derivatele parţiale de ordinul doi ale funcţiei Lagrange şi formăm diferenţiala de ordinul al doile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414520" y="1523880"/>
            <a:ext cx="4314960" cy="1047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511200" y="2676600"/>
            <a:ext cx="8121600" cy="105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3"/>
          <a:stretch/>
        </p:blipFill>
        <p:spPr>
          <a:xfrm>
            <a:off x="628560" y="4343400"/>
            <a:ext cx="3943440" cy="35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"/>
          <p:cNvPicPr/>
          <p:nvPr/>
        </p:nvPicPr>
        <p:blipFill>
          <a:blip r:embed="rId4"/>
          <a:stretch/>
        </p:blipFill>
        <p:spPr>
          <a:xfrm>
            <a:off x="1147680" y="4876920"/>
            <a:ext cx="6924600" cy="34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5"/>
          <a:stretch/>
        </p:blipFill>
        <p:spPr>
          <a:xfrm>
            <a:off x="419040" y="5856120"/>
            <a:ext cx="8115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665720" y="83808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ŢIILE KUHN-TU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8600" y="2214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cazul optimizǎrii cu restricţii de tip inegalitate, relaţ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2631960" y="2971800"/>
          <a:ext cx="39369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1960" y="2971800"/>
                    <a:ext cx="39369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8"/>
          <p:cNvSpPr/>
          <p:nvPr/>
        </p:nvSpPr>
        <p:spPr>
          <a:xfrm>
            <a:off x="3263760" y="45720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mai este valabil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"/>
          <p:cNvSpPr/>
          <p:nvPr/>
        </p:nvSpPr>
        <p:spPr>
          <a:xfrm>
            <a:off x="767880" y="83808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2295360" y="1600200"/>
          <a:ext cx="50990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5360" y="1600200"/>
                    <a:ext cx="5099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5"/>
          <p:cNvSpPr/>
          <p:nvPr/>
        </p:nvSpPr>
        <p:spPr>
          <a:xfrm>
            <a:off x="788400" y="24400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restricţi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Object 7"/>
          <p:cNvGraphicFramePr/>
          <p:nvPr/>
        </p:nvGraphicFramePr>
        <p:xfrm>
          <a:off x="2387520" y="2971800"/>
          <a:ext cx="3251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87520" y="2971800"/>
                    <a:ext cx="3251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Object 9"/>
          <p:cNvGraphicFramePr/>
          <p:nvPr/>
        </p:nvGraphicFramePr>
        <p:xfrm>
          <a:off x="2346480" y="3657600"/>
          <a:ext cx="36050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6480" y="3657600"/>
                    <a:ext cx="3605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10"/>
          <p:cNvSpPr/>
          <p:nvPr/>
        </p:nvSpPr>
        <p:spPr>
          <a:xfrm>
            <a:off x="794520" y="466884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spunzǎtare egalitǎţil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Object 12"/>
          <p:cNvGraphicFramePr/>
          <p:nvPr/>
        </p:nvGraphicFramePr>
        <p:xfrm>
          <a:off x="2236680" y="5257800"/>
          <a:ext cx="164952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36680" y="5257800"/>
                    <a:ext cx="1649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Object 14"/>
          <p:cNvGraphicFramePr/>
          <p:nvPr/>
        </p:nvGraphicFramePr>
        <p:xfrm>
          <a:off x="2235240" y="5867280"/>
          <a:ext cx="222264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35240" y="5867280"/>
                    <a:ext cx="2222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Rectangle 15"/>
          <p:cNvSpPr/>
          <p:nvPr/>
        </p:nvSpPr>
        <p:spPr>
          <a:xfrm>
            <a:off x="2682720" y="8380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ere minimizarea funcţiei criteri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470160" y="68580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pot fi puse sub fo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2362320" y="1371600"/>
          <a:ext cx="106668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1600"/>
                    <a:ext cx="106668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2362320" y="1828800"/>
          <a:ext cx="17557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828800"/>
                    <a:ext cx="17557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Box 6"/>
          <p:cNvSpPr/>
          <p:nvPr/>
        </p:nvSpPr>
        <p:spPr>
          <a:xfrm>
            <a:off x="914400" y="251460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28600" y="2967120"/>
            <a:ext cx="87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apta D, determinatǎ de intersecţia dintre planu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i suprafaţa prin care este reprezentatǎ în 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ţ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1882800" y="3962520"/>
          <a:ext cx="3093840" cy="53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82800" y="3962520"/>
                    <a:ext cx="30938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3"/>
          <p:cNvSpPr/>
          <p:nvPr/>
        </p:nvSpPr>
        <p:spPr>
          <a:xfrm>
            <a:off x="228600" y="4741920"/>
            <a:ext cx="8796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bola P, determinatǎ de intersecţia dintre planu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şi suprafaţa prin care este reprezentatǎ în 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ţ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Object 15"/>
          <p:cNvGraphicFramePr/>
          <p:nvPr/>
        </p:nvGraphicFramePr>
        <p:xfrm>
          <a:off x="1908000" y="5715000"/>
          <a:ext cx="25606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715000"/>
                    <a:ext cx="2560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scan0018"/>
          <p:cNvPicPr/>
          <p:nvPr/>
        </p:nvPicPr>
        <p:blipFill>
          <a:blip r:embed="rId1"/>
          <a:stretch/>
        </p:blipFill>
        <p:spPr>
          <a:xfrm>
            <a:off x="1560600" y="609480"/>
            <a:ext cx="60325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254160" y="1094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punct de vedere al respectǎrii ambelor restricţii, domeniul admisibil este cel nehaşurat în figură, incluzând şi porţiunile aferente din parabola P şi dreapta 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372240" y="152244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ile funcţiei criteri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7"/>
          <p:cNvGraphicFramePr/>
          <p:nvPr/>
        </p:nvGraphicFramePr>
        <p:xfrm>
          <a:off x="3683160" y="1474920"/>
          <a:ext cx="12697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1474920"/>
                    <a:ext cx="1269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8"/>
          <p:cNvSpPr/>
          <p:nvPr/>
        </p:nvSpPr>
        <p:spPr>
          <a:xfrm>
            <a:off x="380880" y="203364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d dinspre curba circularǎ de nivel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re curba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80880" y="254304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a atinge valoarea zero în punctul de minim M, cu coordonate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Object 11"/>
          <p:cNvGraphicFramePr/>
          <p:nvPr/>
        </p:nvGraphicFramePr>
        <p:xfrm>
          <a:off x="3498840" y="3137040"/>
          <a:ext cx="80964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3137040"/>
                    <a:ext cx="8096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0" name="Object 13"/>
          <p:cNvGraphicFramePr/>
          <p:nvPr/>
        </p:nvGraphicFramePr>
        <p:xfrm>
          <a:off x="4672080" y="3138480"/>
          <a:ext cx="7873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72080" y="3138480"/>
                    <a:ext cx="787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254160" y="3733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ctul care asigurǎ cea mai micǎ valoare a funcţiei criteriu este punctul E, cu coordonate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" name="Object 16"/>
          <p:cNvGraphicFramePr/>
          <p:nvPr/>
        </p:nvGraphicFramePr>
        <p:xfrm>
          <a:off x="3592440" y="4579920"/>
          <a:ext cx="80820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92440" y="4579920"/>
                    <a:ext cx="8082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4656240" y="4564080"/>
          <a:ext cx="826920" cy="4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56240" y="4564080"/>
                    <a:ext cx="8269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9"/>
          <p:cNvSpPr/>
          <p:nvPr/>
        </p:nvSpPr>
        <p:spPr>
          <a:xfrm>
            <a:off x="473040" y="5162400"/>
            <a:ext cx="86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a intersecţia dreptei D cu parabola P), aceasta reprezentând </a:t>
            </a:r>
            <a:r>
              <a:rPr b="0" lang="de-DE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luţia </a:t>
            </a:r>
            <a:r>
              <a:rPr b="1" lang="de-DE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x</a:t>
            </a:r>
            <a:r>
              <a:rPr b="0" lang="de-DE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*</a:t>
            </a:r>
            <a:r>
              <a:rPr b="0" lang="de-DE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a problemei de optimizare cu restricţ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348480" y="227160"/>
            <a:ext cx="56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tatǎ cǎ în punctul E nu are loc relaţ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2616120" y="990720"/>
          <a:ext cx="294660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990720"/>
                    <a:ext cx="2946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4"/>
          <p:cNvSpPr/>
          <p:nvPr/>
        </p:nvSpPr>
        <p:spPr>
          <a:xfrm>
            <a:off x="330120" y="1981080"/>
            <a:ext cx="82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este valabilǎ numai în punctul M, însǎ acesta nu aparţine domeniului admisib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39840" y="3046320"/>
            <a:ext cx="82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figură sunt reprezentaţi vectorul gradientulu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7" name="Object 7"/>
          <p:cNvGraphicFramePr/>
          <p:nvPr/>
        </p:nvGraphicFramePr>
        <p:xfrm>
          <a:off x="6477120" y="3044880"/>
          <a:ext cx="790560" cy="4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044880"/>
                    <a:ext cx="790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Rectangle 8"/>
          <p:cNvSpPr/>
          <p:nvPr/>
        </p:nvSpPr>
        <p:spPr>
          <a:xfrm>
            <a:off x="339840" y="3962520"/>
            <a:ext cx="8508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punctul E (vector perpendicular pe tangenta la curba circularǎ de nivel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ci având direcţia razei cercului şi sensul spre curbele de nivel cu valori crescǎtoare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­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c.) şi vectoru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10"/>
          <p:cNvGraphicFramePr/>
          <p:nvPr/>
        </p:nvGraphicFramePr>
        <p:xfrm>
          <a:off x="7086600" y="4705200"/>
          <a:ext cx="971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705200"/>
                    <a:ext cx="971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4"/>
          <p:cNvSpPr/>
          <p:nvPr/>
        </p:nvSpPr>
        <p:spPr>
          <a:xfrm>
            <a:off x="339840" y="516240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ens opus, prelungirea acestui vector trecând prin punctul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345960" y="2286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orice punct considerat (fǎcând abstracţie de existenţa restricţiilor) prelungirea oricǎrui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3635280" y="1058760"/>
          <a:ext cx="9716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058760"/>
                    <a:ext cx="971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4"/>
          <p:cNvSpPr/>
          <p:nvPr/>
        </p:nvSpPr>
        <p:spPr>
          <a:xfrm>
            <a:off x="39672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ce prin minimul fǎrǎ restricţii M, deoarece curbele de nivel sunt circul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96720" y="2590920"/>
            <a:ext cx="848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zul unor curbe de nivel circulare, metoda celei mai mari pante, cu alegerea direcţiei iniţi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Object 7"/>
          <p:cNvGraphicFramePr/>
          <p:nvPr/>
        </p:nvGraphicFramePr>
        <p:xfrm>
          <a:off x="3581280" y="3421080"/>
          <a:ext cx="137160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421080"/>
                    <a:ext cx="137160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8"/>
          <p:cNvSpPr/>
          <p:nvPr/>
        </p:nvSpPr>
        <p:spPr>
          <a:xfrm>
            <a:off x="414360" y="3733920"/>
            <a:ext cx="845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e într-un singur pas pânǎ la minimul fǎrǎ restricţii, întrucât prin deplasarea pe aceastǎ direcţie se ajunge în minim şi nu trebuie cǎutatǎ o altǎ direcţ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345960" y="5105520"/>
            <a:ext cx="84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aceastǎ bazǎ a fost elaboratǎ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 gradientului conjugat scal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re este indicatǎ atunci când prin operaţii de modificare a scalei – de scalare – curbele de nivel de anumite forme (de exemplu elipse) pot fi transformate în cercu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533520" y="4572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figură sunt reprezentaţi şi vectorii gradienţi ai restricţiilo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" name="Object 3"/>
          <p:cNvGraphicFramePr/>
          <p:nvPr/>
        </p:nvGraphicFramePr>
        <p:xfrm>
          <a:off x="533520" y="1295280"/>
          <a:ext cx="938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938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34960" y="3962520"/>
          <a:ext cx="10969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960" y="3962520"/>
                    <a:ext cx="10969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Rectangle 6"/>
          <p:cNvSpPr/>
          <p:nvPr/>
        </p:nvSpPr>
        <p:spPr>
          <a:xfrm>
            <a:off x="162864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în E pe tangenta T la parabola 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541800" y="198108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cuaţia tangentei T în E la cur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" name="Object 9"/>
          <p:cNvGraphicFramePr/>
          <p:nvPr/>
        </p:nvGraphicFramePr>
        <p:xfrm>
          <a:off x="4861080" y="1847880"/>
          <a:ext cx="1271520" cy="64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1847880"/>
                    <a:ext cx="12715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Rectangle 10"/>
          <p:cNvSpPr/>
          <p:nvPr/>
        </p:nvSpPr>
        <p:spPr>
          <a:xfrm>
            <a:off x="6188400" y="199872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" name="Object 12"/>
          <p:cNvGraphicFramePr/>
          <p:nvPr/>
        </p:nvGraphicFramePr>
        <p:xfrm>
          <a:off x="6950160" y="1916280"/>
          <a:ext cx="1879560" cy="58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1916280"/>
                    <a:ext cx="1879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13"/>
          <p:cNvSpPr/>
          <p:nvPr/>
        </p:nvSpPr>
        <p:spPr>
          <a:xfrm>
            <a:off x="534960" y="2454120"/>
            <a:ext cx="82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ând sensul spre zona haşuratǎ, respectiv sensul creşterii funcţi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Object 15"/>
          <p:cNvGraphicFramePr/>
          <p:nvPr/>
        </p:nvGraphicFramePr>
        <p:xfrm>
          <a:off x="3292560" y="2916360"/>
          <a:ext cx="3189240" cy="664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92560" y="2916360"/>
                    <a:ext cx="31892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6"/>
          <p:cNvSpPr/>
          <p:nvPr/>
        </p:nvSpPr>
        <p:spPr>
          <a:xfrm>
            <a:off x="1809720" y="3962520"/>
            <a:ext cx="69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în E pe dreapta D şi având sensul spre zona haşuratǎ (deci sensul creşterii valorilor funcţi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Object 18"/>
          <p:cNvGraphicFramePr/>
          <p:nvPr/>
        </p:nvGraphicFramePr>
        <p:xfrm>
          <a:off x="3324240" y="5105520"/>
          <a:ext cx="3625920" cy="6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8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24240" y="5105520"/>
                    <a:ext cx="3625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Box 19"/>
          <p:cNvSpPr/>
          <p:nvPr/>
        </p:nvSpPr>
        <p:spPr>
          <a:xfrm>
            <a:off x="8782200" y="1835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14480" y="24768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e cazul cǎutǎrii extremului (de exemplu , a maximului) unei funcţii criteriu de n variab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1789200" y="1523880"/>
          <a:ext cx="5627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1523880"/>
                    <a:ext cx="5627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4"/>
          <p:cNvSpPr/>
          <p:nvPr/>
        </p:nvSpPr>
        <p:spPr>
          <a:xfrm>
            <a:off x="313200" y="243828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u m restricţii de tip egali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ct 6"/>
          <p:cNvGraphicFramePr/>
          <p:nvPr/>
        </p:nvGraphicFramePr>
        <p:xfrm>
          <a:off x="1600200" y="3505320"/>
          <a:ext cx="624852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505320"/>
                    <a:ext cx="62485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5"/>
          <p:cNvSpPr/>
          <p:nvPr/>
        </p:nvSpPr>
        <p:spPr>
          <a:xfrm>
            <a:off x="4443480" y="109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14"/>
          <p:cNvGraphicFramePr/>
          <p:nvPr/>
        </p:nvGraphicFramePr>
        <p:xfrm>
          <a:off x="380880" y="4648320"/>
          <a:ext cx="3832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648320"/>
                    <a:ext cx="3832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20"/>
          <p:cNvSpPr/>
          <p:nvPr/>
        </p:nvSpPr>
        <p:spPr>
          <a:xfrm>
            <a:off x="8157960" y="1752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8027640" y="367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6E6-0A73-468E-BECA-C78631891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1" name="Object 2"/>
          <p:cNvGraphicFramePr/>
          <p:nvPr/>
        </p:nvGraphicFramePr>
        <p:xfrm>
          <a:off x="217440" y="785880"/>
          <a:ext cx="97164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785880"/>
                    <a:ext cx="971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3"/>
          <p:cNvSpPr/>
          <p:nvPr/>
        </p:nvSpPr>
        <p:spPr>
          <a:xfrm>
            <a:off x="1254240" y="86508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uie sǎ se gǎseascǎ între vectori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5" name="Object 5"/>
          <p:cNvGraphicFramePr/>
          <p:nvPr/>
        </p:nvGraphicFramePr>
        <p:xfrm>
          <a:off x="5808600" y="784080"/>
          <a:ext cx="95724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08600" y="784080"/>
                    <a:ext cx="9572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6768720" y="7891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9" name="Object 8"/>
          <p:cNvGraphicFramePr/>
          <p:nvPr/>
        </p:nvGraphicFramePr>
        <p:xfrm>
          <a:off x="7315200" y="774720"/>
          <a:ext cx="92556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774720"/>
                    <a:ext cx="925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2" name="Object 10"/>
          <p:cNvGraphicFramePr/>
          <p:nvPr/>
        </p:nvGraphicFramePr>
        <p:xfrm>
          <a:off x="2471760" y="1447920"/>
          <a:ext cx="394668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1760" y="1447920"/>
                    <a:ext cx="39466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14"/>
          <p:cNvSpPr/>
          <p:nvPr/>
        </p:nvSpPr>
        <p:spPr>
          <a:xfrm>
            <a:off x="309600" y="2238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şti vectori sunt perpendiculari pe tangenta T şi dreapta D şi deci orice direcţie care face unghiuri pânǎ la 9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vecto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Object 16"/>
          <p:cNvGraphicFramePr/>
          <p:nvPr/>
        </p:nvGraphicFramePr>
        <p:xfrm>
          <a:off x="2624040" y="3181320"/>
          <a:ext cx="944640" cy="5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4040" y="3181320"/>
                    <a:ext cx="94464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7"/>
          <p:cNvSpPr/>
          <p:nvPr/>
        </p:nvSpPr>
        <p:spPr>
          <a:xfrm>
            <a:off x="3682080" y="31845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0" name="Object 19"/>
          <p:cNvGraphicFramePr/>
          <p:nvPr/>
        </p:nvGraphicFramePr>
        <p:xfrm>
          <a:off x="4438800" y="3157560"/>
          <a:ext cx="10350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1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38800" y="3157560"/>
                    <a:ext cx="1035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20"/>
          <p:cNvSpPr/>
          <p:nvPr/>
        </p:nvSpPr>
        <p:spPr>
          <a:xfrm>
            <a:off x="404640" y="403560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e la deplasǎri spre zona interzisǎ, hasurat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21"/>
          <p:cNvSpPr/>
          <p:nvPr/>
        </p:nvSpPr>
        <p:spPr>
          <a:xfrm>
            <a:off x="474840" y="5240160"/>
            <a:ext cx="84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urmare, sunt admise numai direcţi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re fac unghiuri mai mari de 9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ambii vecto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5127120" y="56894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7" name="Object 27"/>
          <p:cNvGraphicFramePr/>
          <p:nvPr/>
        </p:nvGraphicFramePr>
        <p:xfrm>
          <a:off x="4273560" y="5610240"/>
          <a:ext cx="944640" cy="53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8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73560" y="5610240"/>
                    <a:ext cx="944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28"/>
          <p:cNvGraphicFramePr/>
          <p:nvPr/>
        </p:nvGraphicFramePr>
        <p:xfrm>
          <a:off x="5634000" y="5575320"/>
          <a:ext cx="103500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0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34000" y="5575320"/>
                    <a:ext cx="1035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"/>
          <p:cNvSpPr/>
          <p:nvPr/>
        </p:nvSpPr>
        <p:spPr>
          <a:xfrm>
            <a:off x="313200" y="4572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 c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2666880" y="687240"/>
          <a:ext cx="2619360" cy="6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687240"/>
                    <a:ext cx="26193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Rectangle 4"/>
          <p:cNvSpPr/>
          <p:nvPr/>
        </p:nvSpPr>
        <p:spPr>
          <a:xfrm>
            <a:off x="304920" y="1371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ca vectorul direcţiei admisib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ǎ facǎ unghiuri mai mari de 9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vecto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668680" y="24382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22560" y="2438280"/>
            <a:ext cx="30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t necesare condiţi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Object 12"/>
          <p:cNvGraphicFramePr/>
          <p:nvPr/>
        </p:nvGraphicFramePr>
        <p:xfrm>
          <a:off x="1846440" y="2971800"/>
          <a:ext cx="518472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2971800"/>
                    <a:ext cx="51847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3"/>
          <p:cNvSpPr/>
          <p:nvPr/>
        </p:nvSpPr>
        <p:spPr>
          <a:xfrm>
            <a:off x="368280" y="403704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de altǎ parte, tot din relaţ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Object 15"/>
          <p:cNvGraphicFramePr/>
          <p:nvPr/>
        </p:nvGraphicFramePr>
        <p:xfrm>
          <a:off x="4286160" y="4037040"/>
          <a:ext cx="17780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4037040"/>
                    <a:ext cx="1778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6"/>
          <p:cNvSpPr/>
          <p:nvPr/>
        </p:nvSpPr>
        <p:spPr>
          <a:xfrm>
            <a:off x="357120" y="487188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zultat cǎ pentru ca o direcţi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ǎ asigure descreşterea funcţiei criteriu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ste necesar ca vectorul p sǎ facǎ un unghi mai mic de 9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vectorul grad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9" name="Object 18"/>
          <p:cNvGraphicFramePr/>
          <p:nvPr/>
        </p:nvGraphicFramePr>
        <p:xfrm>
          <a:off x="3927600" y="5867280"/>
          <a:ext cx="734760" cy="73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7600" y="5867280"/>
                    <a:ext cx="73476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19"/>
          <p:cNvSpPr/>
          <p:nvPr/>
        </p:nvSpPr>
        <p:spPr>
          <a:xfrm>
            <a:off x="3368160" y="1976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2" name="Object 20"/>
          <p:cNvGraphicFramePr/>
          <p:nvPr/>
        </p:nvGraphicFramePr>
        <p:xfrm>
          <a:off x="2514600" y="1897200"/>
          <a:ext cx="944640" cy="53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1897200"/>
                    <a:ext cx="94464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21"/>
          <p:cNvGraphicFramePr/>
          <p:nvPr/>
        </p:nvGraphicFramePr>
        <p:xfrm>
          <a:off x="3875040" y="1862280"/>
          <a:ext cx="1035000" cy="576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5" name="Object 2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75040" y="1862280"/>
                    <a:ext cx="1035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380880" y="533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cazul general n-dimensional în prezenţa a r restricţ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1523880" y="1371600"/>
          <a:ext cx="322416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32241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Object 5"/>
          <p:cNvGraphicFramePr/>
          <p:nvPr/>
        </p:nvGraphicFramePr>
        <p:xfrm>
          <a:off x="5181480" y="1523880"/>
          <a:ext cx="10414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523880"/>
                    <a:ext cx="1041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4" name="Object 7"/>
          <p:cNvGraphicFramePr/>
          <p:nvPr/>
        </p:nvGraphicFramePr>
        <p:xfrm>
          <a:off x="2514600" y="2514600"/>
          <a:ext cx="37339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514600"/>
                    <a:ext cx="3733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Rectangle 9"/>
          <p:cNvSpPr/>
          <p:nvPr/>
        </p:nvSpPr>
        <p:spPr>
          <a:xfrm>
            <a:off x="380880" y="4648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ţiile Kuhn-Tucker afirmǎ cǎ prin deplasarea din punctul de optim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în orice direcţie admisibilă – respectiv în orice direcţie care nu determinǎ încǎlcarea vreunei restricţii – funcţia criteriu nu poate descreş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468360" y="21160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ţiile Kuhn-Tucker sunt folosite în numeroase metode de optimizare cu restricţii pentru generarea de direcţiii de deplasare spre optim (de exemplu, în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a proiecţiei gradientulu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au pentru stabilirea unor criterii de oprire a cǎutǎrii atunci când verificarea condiţiilor Kuhn-Tucker atestǎ atingerea optimulu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239400" y="309600"/>
            <a:ext cx="38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e demonstrat cǎ punctu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3262320" y="841320"/>
          <a:ext cx="2346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2320" y="841320"/>
                    <a:ext cx="2346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4"/>
          <p:cNvSpPr/>
          <p:nvPr/>
        </p:nvSpPr>
        <p:spPr>
          <a:xfrm>
            <a:off x="228600" y="1676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re maximizeazǎ funcţia criteriu (1), cu respectarea respectarea restricţiilor (2), poate fi obţinut prin optimizarea (maximizarea) fǎrǎ restricţii a funcţi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1314360" y="3048120"/>
          <a:ext cx="64389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4360" y="3048120"/>
                    <a:ext cx="64389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235080" y="4824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uncţ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905120" y="4753080"/>
          <a:ext cx="47671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753080"/>
                    <a:ext cx="47671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0"/>
          <p:cNvSpPr/>
          <p:nvPr/>
        </p:nvSpPr>
        <p:spPr>
          <a:xfrm>
            <a:off x="228600" y="5591160"/>
            <a:ext cx="82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e denumitǎ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funcţie Lagran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(sau lagrangean), iar scalar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12"/>
          <p:cNvGraphicFramePr/>
          <p:nvPr/>
        </p:nvGraphicFramePr>
        <p:xfrm>
          <a:off x="1066680" y="6116760"/>
          <a:ext cx="2444760" cy="6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6116760"/>
                    <a:ext cx="24447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3"/>
          <p:cNvSpPr/>
          <p:nvPr/>
        </p:nvSpPr>
        <p:spPr>
          <a:xfrm>
            <a:off x="3820680" y="6172200"/>
            <a:ext cx="47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nt numiţi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multiplicatorii Lag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FDD3-6AD1-4656-ACC7-19AD5C091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228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  <a:ea typeface="Arial"/>
              </a:rPr>
              <a:t>Extremul funcţiei Lagrange se obţine prin intermediul condiţiil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2666880" y="1143000"/>
          <a:ext cx="33530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143000"/>
                    <a:ext cx="33530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5"/>
          <p:cNvGraphicFramePr/>
          <p:nvPr/>
        </p:nvGraphicFramePr>
        <p:xfrm>
          <a:off x="3505320" y="2057400"/>
          <a:ext cx="1600200" cy="43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057400"/>
                    <a:ext cx="16002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921-1335-4FB7-BC65-598585E5E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2209680" y="1143000"/>
          <a:ext cx="48769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876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6"/>
          <p:cNvSpPr/>
          <p:nvPr/>
        </p:nvSpPr>
        <p:spPr>
          <a:xfrm>
            <a:off x="2819520" y="2209680"/>
            <a:ext cx="3429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2πrl + 2πr</a:t>
            </a:r>
            <a:r>
              <a:rPr b="0" lang="de-DE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lang="de-DE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52440" y="314280"/>
            <a:ext cx="84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UL 1 : PROBLEMA REZERVORULUI CILIND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Object 9"/>
          <p:cNvGraphicFramePr/>
          <p:nvPr/>
        </p:nvGraphicFramePr>
        <p:xfrm>
          <a:off x="927000" y="3200400"/>
          <a:ext cx="721368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7000" y="3200400"/>
                    <a:ext cx="7213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Object 11"/>
          <p:cNvGraphicFramePr/>
          <p:nvPr/>
        </p:nvGraphicFramePr>
        <p:xfrm>
          <a:off x="255600" y="4648320"/>
          <a:ext cx="86328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" y="4648320"/>
                    <a:ext cx="8632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6454-2B10-48E2-9B3C-CE260DC7B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228600"/>
          <a:ext cx="55944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5594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0" y="1523880"/>
          <a:ext cx="467352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4673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7010280" y="380880"/>
          <a:ext cx="144792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380880"/>
                    <a:ext cx="14479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4952880" y="1752480"/>
          <a:ext cx="215280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1752480"/>
                    <a:ext cx="21528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0"/>
          <p:cNvGraphicFramePr/>
          <p:nvPr/>
        </p:nvGraphicFramePr>
        <p:xfrm>
          <a:off x="7543800" y="1600200"/>
          <a:ext cx="143028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1600200"/>
                    <a:ext cx="1430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1" name="Object 12"/>
          <p:cNvGraphicFramePr/>
          <p:nvPr/>
        </p:nvGraphicFramePr>
        <p:xfrm>
          <a:off x="2286000" y="2971800"/>
          <a:ext cx="216684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2971800"/>
                    <a:ext cx="2166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Object 14"/>
          <p:cNvGraphicFramePr/>
          <p:nvPr/>
        </p:nvGraphicFramePr>
        <p:xfrm>
          <a:off x="4800600" y="3276720"/>
          <a:ext cx="101448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00600" y="3276720"/>
                    <a:ext cx="10144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Object 16"/>
          <p:cNvGraphicFramePr/>
          <p:nvPr/>
        </p:nvGraphicFramePr>
        <p:xfrm>
          <a:off x="0" y="4267080"/>
          <a:ext cx="3922560" cy="68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8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4267080"/>
                    <a:ext cx="3922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18"/>
          <p:cNvGraphicFramePr/>
          <p:nvPr/>
        </p:nvGraphicFramePr>
        <p:xfrm>
          <a:off x="762120" y="5486400"/>
          <a:ext cx="2133360" cy="117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5486400"/>
                    <a:ext cx="21333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Object 20"/>
          <p:cNvGraphicFramePr/>
          <p:nvPr/>
        </p:nvGraphicFramePr>
        <p:xfrm>
          <a:off x="3657600" y="5410080"/>
          <a:ext cx="2308320" cy="121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" name="Object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57600" y="5410080"/>
                    <a:ext cx="230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Object 22"/>
          <p:cNvGraphicFramePr/>
          <p:nvPr/>
        </p:nvGraphicFramePr>
        <p:xfrm>
          <a:off x="6477120" y="5486400"/>
          <a:ext cx="2209680" cy="11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" name="Object 2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477120" y="5486400"/>
                    <a:ext cx="2209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A89-F971-490B-AB10-8574ECD8F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80960" y="609480"/>
            <a:ext cx="71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UL 2 :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Se consideră circuitul din figu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819520" y="1427040"/>
            <a:ext cx="3787560" cy="2225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52280" y="38386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Se cere să se determine valorile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R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şi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astfel încât să se minimizeze tensiunea continuă de ieşire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Uc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în regim permanent, respectând următoarele valori pentru valorile efective ale tensiunii alternative de intrare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şi curentului </a:t>
            </a:r>
            <a:r>
              <a:rPr b="1" i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vi-VN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 = 110 V, I = 0.1 A, frecvenţa = 50 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EAA3-8216-4C7D-9684-3CFA8B5DA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105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366840" y="609480"/>
            <a:ext cx="83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"/>
              </a:rPr>
              <a:t>Modelul matematic este reprezentat de următoarele ecuaţi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2494080" y="4495680"/>
            <a:ext cx="4624200" cy="1638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78000" y="403380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eea ce este echivalent cu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8T18:22:33Z</dcterms:created>
  <dc:creator>DAN-Stefan</dc:creator>
  <dc:description/>
  <dc:language>en-US</dc:language>
  <cp:lastModifiedBy>DAN-Stefan</cp:lastModifiedBy>
  <dcterms:modified xsi:type="dcterms:W3CDTF">2014-04-09T03:49:17Z</dcterms:modified>
  <cp:revision>3</cp:revision>
  <dc:subject/>
  <dc:title>METODE DE CALCUL PENTRU OPTIMIZAREA CU RESTRICŢII</dc:title>
</cp:coreProperties>
</file>